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953-5E78-42E0-A2E9-47772B15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1AD-C0E7-490D-8FF4-BA072138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B61-6822-4F38-8F26-3DCF4916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598-1378-4A40-A2C2-8BF1F05B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D0C-DDA9-473B-9501-A9337168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833-6BCD-4CA3-AE3D-FFBB18F2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637-B796-4C4C-89FB-0DDCD7DB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D49-A50D-4A8E-9DDB-F488660B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4DA-B54E-4DA8-A965-9989FA71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611-AC61-4EDB-829B-3E3CDE63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C8F-CC25-44C1-91C7-DB5947A9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4D3-F9C4-4AC9-951D-08F50ACE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0FB7-45A2-4EC0-A7D5-443CC6D699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631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دورة بعنو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6553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ن إع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أبو أسـام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9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MCS Jeddah S_I 3d."/>
              </a:rPr>
              <a:t>استراح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dvertisingLight"/>
              </a:rPr>
              <a:t>* جدول افتراضي لأنشطة وأعمال رجل عمره سبعون سن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2492280"/>
          <a:ext cx="8569080" cy="3184560"/>
        </p:xfrm>
        <a:graphic>
          <a:graphicData uri="http://schemas.openxmlformats.org/drawingml/2006/table">
            <a:tbl>
              <a:tblPr/>
              <a:tblGrid>
                <a:gridCol w="792000"/>
                <a:gridCol w="765360"/>
                <a:gridCol w="777600"/>
                <a:gridCol w="781200"/>
                <a:gridCol w="777960"/>
                <a:gridCol w="780840"/>
                <a:gridCol w="777960"/>
                <a:gridCol w="781200"/>
                <a:gridCol w="777600"/>
                <a:gridCol w="779760"/>
                <a:gridCol w="777600"/>
              </a:tblGrid>
              <a:tr h="26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باق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اتصالات الهاتفية بمعدل نصف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تنقل من مكان لآخر بمعدل نصف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عمال المنزلية والرحلات والتنزه بمعدل ساعة واحد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لقاءات الاجتماعية والودية بين الأصدقاء بمعدل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عمال المعتادة والمراجعات الحكومية بمعدل نصف ساع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كل والشرب بمعدل ساعة ونصف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عمل من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7</a:t>
                      </a: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.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نوم (بمعدل ثماني ساعات يوميا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نوع النشا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وات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ايستغرقه بالسنو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نسبة السنوية من الع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خططاً مكتوب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جداول يوم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خطط للأمور اليقينية أو المحتم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خططاً يومية وأسبوعية وشهرية وسنو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كن مرناً في وضع خطط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إقضِ عشر دقائق في نهاية كل يوم لنشاطات اليوم التا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راجع خطتك دائماً (الأسبوعية – الجمعة ، الشهرية – نهاية الشهر ، السنوية – كل أربعة أو ثلاثة اشهر) وفي المراجعة قيم خطتك السابقة ، ورتب لخطتك القاد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Shafa E_U 3D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خطيط جيد للوقت + إجراءات إيجابية لمواجهة مضيعات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= إدارة فعالة ل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ضاءة الثانية: 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1125360"/>
            <a:ext cx="7773840" cy="403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Hotham"/>
              </a:rPr>
              <a:t>برمج نفسك أخي على أنك رجل فعّال مغتنم لوقتك ، وتخيل الناس وهم ينظرون إليك للإقتداء ،</a:t>
            </a:r>
            <a:br>
              <a:rPr sz="5400"/>
            </a:b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Hotham"/>
              </a:rPr>
              <a:t>واعلم بأنك أهلٌ لذلك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68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68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68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dvertisingMedium"/>
              </a:rPr>
              <a:t>الإضاءة الثالثة: إدارة الأولويا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CS Taybah S_U normal.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DecoType Naskh Variants"/>
                <a:ea typeface="AL-Mohanad Bold"/>
              </a:rPr>
              <a:t> حدد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أكتب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رتب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ضع جدولاً ل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</a:t>
            </a:r>
            <a:r>
              <a:rPr b="0" lang="ar-SA" sz="4000" spc="-1" strike="noStrike">
                <a:solidFill>
                  <a:srgbClr val="000000"/>
                </a:solidFill>
                <a:latin typeface="Eras Demi ITC"/>
                <a:cs typeface="AL-Mohanad Bold"/>
              </a:rPr>
              <a:t>هل درست جدول إيزنهاور لضبط الأولويات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جدول إيزن هاو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32360" y="907560"/>
            <a:ext cx="2952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 rtl="1">
              <a:lnSpc>
                <a:spcPct val="100000"/>
              </a:lnSpc>
              <a:spcBef>
                <a:spcPts val="5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800" spc="-1" strike="noStrike">
                <a:solidFill>
                  <a:srgbClr val="000000"/>
                </a:solidFill>
                <a:latin typeface="DecoType Naskh Variants"/>
                <a:ea typeface="DecoType Naskh Variants"/>
              </a:rPr>
              <a:t>×</a:t>
            </a:r>
            <a:endParaRPr b="0" lang="en-US" sz="2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00" y="3611520"/>
            <a:ext cx="39560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21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مهم وغير عاج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الزيارات والمكالمات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مهم وعاج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كالأزمات والمواقف الطارئة ، والمهام التي اقترب موعدها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غير عاجل وغير مهم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كالأمور الروتينية والمكررة ، كحوائج المنزل أو السيارة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غير مهم وعاج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يخضع لرغبات الأهل والنفس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7093080" y="4148280"/>
            <a:ext cx="1871640" cy="576000"/>
          </a:xfrm>
          <a:prstGeom prst="leftArrow">
            <a:avLst>
              <a:gd name="adj1" fmla="val 50000"/>
              <a:gd name="adj2" fmla="val 81234"/>
            </a:avLst>
          </a:prstGeom>
          <a:gradFill rotWithShape="0">
            <a:gsLst>
              <a:gs pos="0">
                <a:srgbClr val="d559a3"/>
              </a:gs>
              <a:gs pos="100000">
                <a:srgbClr val="781e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يمكن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2060640"/>
            <a:ext cx="1871640" cy="576360"/>
          </a:xfrm>
          <a:prstGeom prst="leftArrow">
            <a:avLst>
              <a:gd name="adj1" fmla="val 50000"/>
              <a:gd name="adj2" fmla="val 81184"/>
            </a:avLst>
          </a:prstGeom>
          <a:gradFill rotWithShape="0">
            <a:gsLst>
              <a:gs pos="0">
                <a:srgbClr val="d559a3"/>
              </a:gs>
              <a:gs pos="100000">
                <a:srgbClr val="781e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لايمكن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06064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gradFill rotWithShape="0">
            <a:gsLst>
              <a:gs pos="0">
                <a:srgbClr val="be3085"/>
              </a:gs>
              <a:gs pos="100000">
                <a:srgbClr val="5716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يمكن تفويض بع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365720"/>
            <a:ext cx="1871640" cy="576000"/>
          </a:xfrm>
          <a:prstGeom prst="rightArrow">
            <a:avLst>
              <a:gd name="adj1" fmla="val 50000"/>
              <a:gd name="adj2" fmla="val 81234"/>
            </a:avLst>
          </a:prstGeom>
          <a:gradFill rotWithShape="0">
            <a:gsLst>
              <a:gs pos="0">
                <a:srgbClr val="be3085"/>
              </a:gs>
              <a:gs pos="100000">
                <a:srgbClr val="5716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فضل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1341360"/>
            <a:ext cx="3600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 rtl="1"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9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9280" y="1484280"/>
            <a:ext cx="395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30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21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ضاءة الأخيرة: التنفي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ستعن باللـه ولا تعج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تخلص من حولك وقوتك إلى حول اللـه وقوت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بدأ أعمالك في الصباح الباكر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بدأ أعمالك بالأهم فالمه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أنجز العمل المناسب في الوقت المناسب ، ولا تسوف أو تؤج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تخلص من مضيعات الوقت ومن لصوص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ي مكان هادئ بعيداً عن الضوضاء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لك جدولاً للأعمال الطارئة أياً كانت ، كالمكالمات أو الزيارات الغير متفق عليها سابقا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كرر عبارة ”عد للعمل“ ، ”عد للعمل“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AL-Mohanad Bold"/>
              </a:rPr>
              <a:t> عليك بالدعاء ، ولا تنس تلبية حق الوالدين والأه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dvertisingLight"/>
              </a:rPr>
              <a:t>المراج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* المراجع التي تم الرجوع إليها للإفادة منها في هذه الدور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وعلم إدارة الوقت . الجزء الثاني . أ. رعد حسن الصر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إدارة الوقت . عبداللـه البوص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إدارة الوقت . محمد ديم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إدارة الوقت (ضمن دورة تدريبية) للدكتور طارق السويدان. إصدار قرطبة للإنتاج الف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تحكم في وقتك. بريان ترا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قيمة الزمن عند العلماء. عبدالفتاح أبو غ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رسالة الوقت أنفاس لا تعود. الشيخ عبدالملك القاس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محمد ناصرالدين الألباني محدث العصر وناصر السنة. إبراهيم الع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فائدة من العلامة ابن عثيمين (محاضرة صوتية). الشيخ محمد صالح المنج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6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45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1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1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8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685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94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205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5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نهاية المطا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11 BT"/>
              </a:rPr>
              <a:t>ـ ولا أنسى أن أشكرك أخي على تفضلك بالاضطلاع على ما في طيات هذه الدورة التي استمتعنا سوياً بما فيها ، وأسأل اللـه بمنه وكرمه أن يرزقنا العمل بما فيها من صواب ، والعفو والمغفرة عما فيه من خطأ أو زل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ما أبرئ نفسي إنني بشــــــر       أسهو وأخطئ مالم يحمني قـــ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مـا أرى عـذراً أولى بذي زلـل      مــــــــــــن أقــــــــول مقراً إننــي بشـــ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لك مني ومن الإخوة بشبكة الأمجاد الإسلامية وافر التحايا وأطيب الأمن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300"/>
                            </p:stCondLst>
                            <p:childTnLst>
                              <p:par>
                                <p:cTn id="6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315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6950"/>
                            </p:stCondLst>
                            <p:childTnLst>
                              <p:par>
                                <p:cTn id="7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Battar"/>
              </a:rPr>
              <a:t>محاور الدور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الوقت في الكتاب والسن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خصائص الوقت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إضاءات للناجحين مع الوقت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هذه حاله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إدارة الوقت بفاعلي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3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في الكتاب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أقسم المولى سبحانه بأغلب الأوقات والأزمان لأهميتها ، فمن ذلك قوله تعالى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الفجر وليالٍ عشر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، وقوله سبحانه 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والليل إذا يغشى والنهار إذا تجلى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يقول سبحانه 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والعصر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، يقول ابن عباس ـ رضي الله عنه ـ: "العصر هو : الزمن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قال الشيخ : عطية محمد سالم ـ رحمه اللـه ـ: في الأضواء: ” هو الدهر كله ، أقسم اللـه به لما فيه من العجائب ، أمة تذهب ، وأمة تأتي ، وقدر ينفد ، وآية تظهر ، وهو هو لا يتغير ، ليل يعقبه نهار ، ونهار يطرده ليل ، فهو في نفسه عج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أرى الزمان سفينة تجري بنا          نـحو المنون ولا نرى حركا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في السنة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في صحيح البخاري من حديث ابن عباس ـ رضي اللـه عنهما ـ قال : قال رسول اللـه ـ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dvertisingMediu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dvertisingExtraBold"/>
                <a:ea typeface="AdvertisingMedium"/>
              </a:rPr>
              <a:t>$</a:t>
            </a: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ea typeface="AdvertisingMedium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 : ” نعمتان مغبون فيهما كثير من الناس : الصحة والفراغ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ـ ” النعم ما يتنعم به الإنسان ويستلذ به ، والغبن أن يشتري بأضعاف الثمن ، أو يبيع بدون ثمن المثل“      ( ابن الخاز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ـ ” فأفاد أن المستفيد من ذلك قِلَّة ، وأما الكثير مفرِّط مغبون ”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ea typeface="AL-Mohanad Bold"/>
              </a:rPr>
              <a:t>                                                                ( عبدالفتاح أبو غد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30064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خصائص الوقت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سرعة انقضائه: فهو يمر مر السحاب ، ويجري جري السحاب سواءً زمن مسرة وفرح ، أم كان اكتئاب وتر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أن ما مضى منه لا يعود ولا يُعو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قال الحسن البصري ـ رحمه اللـه ـ: يا ابن آدم ... أنا خلق جديد ، وعلى عملي شهيد ، فتزود مني ، فإني إذا مضيت لا أعود إلى يوم القيا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أنه أنفس ما يملك الإنسان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ـ قال طيفور البطامي ـ رحمه اللـه ـ: إن الليل والنهار رأس مال المؤمن ، ربحها الجنة ، وخسرانها الن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إضاءات للناجحين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 أبو النصر أباذي: ” مراعاة الوقت من علامات التيقظ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 ابن مسعود ــ رضي اللـه عنه ــ : ” ما ندمت على شيء ندمي على يوم غربت شمسه نقص فيه أجلي ولم يزد فيه عملي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كان أبو مسلم الخولاني ـ رحمه اللـه ـ يقول: ” لو رأيت الجنة ما كان عندي مستزاد ، ولو رأيت النار غداً ما كان عندي مستزاد“ لأنه أوقاته معمورة بطاعة اللـ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ت داية داوود الطائي: يا أبا سليمان أما تشتهي الخبز . . .؟ قال: يا داية بين مضغ الخبز وشرب الفتيت قراءة خمسين آ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544032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فهذه حالهم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ولقد ثبت بما لا يدع مجالاً للشك عن طلاب الشيخ ابن باز ـ رحمه اللـه ـ أن الشيخ كان دائماً ما يسبح بين إجابة على أسئلة المستفتين ، ومحاضراته المسموعة دالة على ذلك .                                                                                      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             ( الأخ أبو أسامه )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الشيخ الألباني ـ رحمه اللـه ـ يقول عن نفسه : ”ولذا فإنني ألازم هذه المكتبة ملازمة موظفيها لها ، ويتراوح ما أقضيه من الوقت فيها ما بين ست ساعات إلى ثماني ساعات يومياً ، على اختلاف النظام الصيفي والشتوي في  الدوام“ ، وأحياناً كان يبقى فيها اثنتي عشر ساعة ، لا يفتر عن المطالعة والتعليق والتحقيق إلا أثناء فترات الصلاة.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            ( أ.إبراهيم العلي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وإذا قلت إن الشيخ ابن عثيمين ـ رحمه اللـه ـ يمر الساعة الرابعة إلا خمس دقائق مثلاً من المكان الفلاني ، وهو ذاهب إلى المسجد ، فإنك تجده يمر بذلك المكان في ذلك الوقت بالضبط ، فهو يمشي كالساعة ، وإذا أعطى موعداً إلتزم به ، فقد جربت ذلك  بموعدين معه أسبوعياً على هاتفه الخاص خصصت للرد على المستفتين عن طريق الإنترنت ، فكان يلتزم بالإجابة ، ويخبر بالتأجيل إذا حصل ، مع كثرة مواعيده وأشغاله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( الشيخ محمد صالح المنجد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3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فما هي حالك أخي ...؟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68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68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* كيف ندير أوقاتنا بفاعليه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075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Sayf Bold"/>
              </a:rPr>
              <a:t>الإضاءة الأولى: ضع لك هدف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شروعاً بالإخلاص والمتابع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واقعياً : كن داعية ، وكن مخترعاً ، كن كي تكو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هم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أمامك تراه دائم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وفق ميولك واهتمامات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حدداً وقابلاً للتقييم : سأقرأ في اليوم ثلاثين صفح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باعثاً على التحدي: سأقيم مشروعاً دعوياً على مستوى الحي ولو كنت طالب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Simple Bold Ruled"/>
              </a:rPr>
              <a:t>* تذك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Simple Bold Ruled"/>
              </a:rPr>
              <a:t>إحفز نفسك لتحقيق أهدافك ، وكافئها بعد ذل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1:45:35Z</dcterms:created>
  <dc:creator>*************</dc:creator>
  <dc:description/>
  <dc:language>en-US</dc:language>
  <cp:lastModifiedBy>ajmifd0a</cp:lastModifiedBy>
  <dcterms:modified xsi:type="dcterms:W3CDTF">2007-06-27T05:59:34Z</dcterms:modified>
  <cp:revision>26</cp:revision>
  <dc:subject/>
  <dc:title>يسر منتدى صُنَّاع الأجياد  بشبكة الأمجاد الإسلامية أن يقدم هذه الدورة بعنوان:</dc:title>
</cp:coreProperties>
</file>